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6FA-2874-471F-97FA-6A63510F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401-FE64-4FE8-8C7A-D2DDAC16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DC2-478F-4BEA-AC7A-FD5E484C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7A5-1B71-4614-8DFE-44BAB51B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E08-8CF9-43BF-BB3D-B2E74CC9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EF6-6A16-4B2B-9446-3D5AF4F4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E86-2A3D-42C4-8A2E-AAF85D76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8F4-537C-4926-A279-5D6CE06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A27-155C-457B-B9A8-82D6FB0B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20D-255C-4DE1-8D02-861036F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A7C-8212-4C46-8917-97574D1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683-EA0D-42D3-82A9-9D5A42C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BA0-22C4-4A12-B45D-8B8DEF34E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6 + 1 Traits of Good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7480" y="1600200"/>
            <a:ext cx="3027240" cy="4525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Broadway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50292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eas are information which can come from the writer’s own experiences or observations, research, reading, or talking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419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80160" y="2286000"/>
            <a:ext cx="21445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3520"/>
            <a:ext cx="9144000" cy="52146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sidering ideas for your writing,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have a solid, main idea that is clear and easy to iden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interesting, relevant, accurate details that expand or clarify your main idea and bring it to life.  In narrative writing, this is done through effective description and ima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essage must be clear and easily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left out unneeded information.  Every detail that you have included contributes to the pi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is the structure of a piece of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you choose should enhance your ideas and make your piece easier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gives your writing direction and helps your reader move through your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TO STRON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, effective, and purposeful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acing – speed up and slow down to help your readers determine what is important and what is seco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conclusion – wraps your piece up and leaves your reader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2666880"/>
            <a:ext cx="1184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writer’s personality and individuality translated onto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individual style of th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shows that the writer cares about his or her audience and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less writing is lifeless wri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s the careful selection of words that fit audience, topic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ncludes energetic verbs, specific nouns, effective adjectives and adverbs.  This creates vivid images and clear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d precise words make grea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in sentence length and style adds interest to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should flow smoothly when rea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(if used) is effective and authe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refers to the mechanical correctness of the piece:  spelling, grammar, usage, paragraphing, use of capitals,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also refers to the style of a piece of writing (example:  how to write a business letter or a formal ess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1:15:56Z</dcterms:created>
  <dc:creator>nbdoe</dc:creator>
  <dc:description/>
  <dc:language>en-US</dc:language>
  <cp:lastModifiedBy>nbdoe</cp:lastModifiedBy>
  <dcterms:modified xsi:type="dcterms:W3CDTF">2007-09-12T19:11:05Z</dcterms:modified>
  <cp:revision>10</cp:revision>
  <dc:subject/>
  <dc:title>6 + 1 Traits of Good Writing</dc:title>
</cp:coreProperties>
</file>